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E3C-6760-4E23-97A7-DC49C785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1DD-1DDA-41DE-82AA-870C6E00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D5B-07BF-48E5-8572-5EC019DF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1A1-C4A8-4B2B-9832-4CAA38D3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9E3D-AE6E-471C-8190-3A6037E6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5EF7-EF1F-45A1-9330-91EF4B72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8511-49E8-4D3D-8F33-82D5801C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E047-0CCD-452D-9856-5A4AC592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BC05-C6DB-479C-93D0-AA80BF12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C05F-6233-4B87-B881-7EE1742D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E8A7-4B63-45CF-A304-22253F37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CD1-690B-48FA-905F-97D32537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85F8-C2B7-4602-9E73-B96C9273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8450-6A7B-408A-BFE6-A7211C81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30C2-2EA6-4940-BA06-E217B66F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0926-7AD2-4FB6-8608-44D3727D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A825-51E1-4B46-81FA-620E30C4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BF7-F3A5-4539-B7BC-30002727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50C5-93A6-4546-A322-B5B6E7DA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7A7-4A35-4657-9741-C6923651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31D-5157-43B8-BA68-30237ABB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30E-458F-4359-B689-662970FF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624-52F5-487A-83E3-55315DDB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3EF-F592-48D2-BD03-AB834CB3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360" cy="6950160"/>
            <a:chOff x="-86760" y="-93600"/>
            <a:chExt cx="277236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6680" cy="3117600"/>
              <a:chOff x="-1080" y="2601000"/>
              <a:chExt cx="268668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5400"/>
                <a:ext cx="1832760" cy="1663200"/>
                <a:chOff x="852840" y="4055400"/>
                <a:chExt cx="1832760" cy="16632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240" y="3944880"/>
                  <a:ext cx="474480" cy="1216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7760" y="4973400"/>
                  <a:ext cx="108720" cy="4986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36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5505-F6F2-453C-A999-E21DE862B8B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38920" y="1037520"/>
              <a:ext cx="1017360" cy="1263240"/>
              <a:chOff x="4138920" y="1037520"/>
              <a:chExt cx="101736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4720" y="10753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39680" y="1609200"/>
                <a:ext cx="48924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099320" y="19670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720" y="296280"/>
              <a:ext cx="888840" cy="833760"/>
              <a:chOff x="5643720" y="296280"/>
              <a:chExt cx="88884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999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3840" y="4795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2760" y="396720"/>
                <a:ext cx="32004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7840" y="431640"/>
              <a:ext cx="1693440" cy="1148040"/>
              <a:chOff x="357840" y="431640"/>
              <a:chExt cx="1693440" cy="114804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0600" y="1050480"/>
                <a:ext cx="35604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6560" y="575280"/>
                <a:ext cx="60948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0280" y="1089720"/>
                <a:ext cx="63720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F779-12FE-49F6-93F6-B29F191A781E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-9640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Опыты и эксперименты </a:t>
            </a:r>
            <a:br>
              <a:rPr sz="4400"/>
            </a:b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для детей 3-4 лет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8" name="Picture 12" descr="11"/>
          <p:cNvPicPr/>
          <p:nvPr/>
        </p:nvPicPr>
        <p:blipFill>
          <a:blip r:embed="rId1"/>
          <a:stretch/>
        </p:blipFill>
        <p:spPr>
          <a:xfrm>
            <a:off x="1763640" y="1773360"/>
            <a:ext cx="6337440" cy="48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1850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Изготовление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"</a:t>
            </a: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Лавовой лампы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".</a:t>
            </a:r>
            <a:br>
              <a:rPr sz="4000"/>
            </a:b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32000" y="692280"/>
            <a:ext cx="73548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Verdana"/>
              </a:rPr>
              <a:t>Цель педагога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: Сосредоточить, привлечь внимание детей новизной ,неожиданным опытом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Verdana"/>
              </a:rPr>
              <a:t>Цель ребенка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: Увидеть интересное, незабываемое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Verdana"/>
              </a:rPr>
              <a:t>Задачи педагога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: Создание условий для познавательной активности детей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- Расширить представление о свойствах жидкостей в процессе выполнения опыта - Способствовать развитию у детей познавательной активности, любознательности через экспериментальную деятельность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1" name="Picture 6" descr="985f92d725a4b17a09da9981a7"/>
          <p:cNvPicPr/>
          <p:nvPr/>
        </p:nvPicPr>
        <p:blipFill>
          <a:blip r:embed="rId1"/>
          <a:stretch/>
        </p:blipFill>
        <p:spPr>
          <a:xfrm>
            <a:off x="3780000" y="3932280"/>
            <a:ext cx="41050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108000" y="115920"/>
            <a:ext cx="90360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 u="sng">
                <a:solidFill>
                  <a:srgbClr val="000066"/>
                </a:solidFill>
                <a:uFillTx/>
                <a:latin typeface="Verdana"/>
              </a:rPr>
              <a:t>Оборудование:</a:t>
            </a:r>
            <a:br>
              <a:rPr sz="1600"/>
            </a:br>
            <a:r>
              <a:rPr b="0" lang="ru-RU" sz="1600" spc="-1" strike="noStrike" u="sng">
                <a:solidFill>
                  <a:srgbClr val="000066"/>
                </a:solidFill>
                <a:uFillTx/>
                <a:latin typeface="Verdana"/>
              </a:rPr>
              <a:t> Вода, растительное масло, краситель, шипучие таблетки, </a:t>
            </a:r>
            <a:br>
              <a:rPr sz="1600"/>
            </a:br>
            <a:r>
              <a:rPr b="0" lang="ru-RU" sz="1600" spc="-1" strike="noStrike" u="sng">
                <a:solidFill>
                  <a:srgbClr val="000066"/>
                </a:solidFill>
                <a:uFillTx/>
                <a:latin typeface="Verdana"/>
              </a:rPr>
              <a:t>Для проведения опыта нам понадобится:</a:t>
            </a:r>
            <a:br>
              <a:rPr sz="1600"/>
            </a:br>
            <a:r>
              <a:rPr b="0" lang="ru-RU" sz="1600" spc="-1" strike="noStrike" u="sng">
                <a:solidFill>
                  <a:srgbClr val="000066"/>
                </a:solidFill>
                <a:uFillTx/>
                <a:latin typeface="Verdana"/>
              </a:rPr>
              <a:t>1. В пустую прозрачную емкость налить небольшое количество воды </a:t>
            </a:r>
            <a:r>
              <a:rPr b="0" i="1" lang="ru-RU" sz="1600" spc="-1" strike="noStrike" u="sng">
                <a:solidFill>
                  <a:srgbClr val="000066"/>
                </a:solidFill>
                <a:uFillTx/>
                <a:latin typeface="Verdana"/>
              </a:rPr>
              <a:t>(повторяем свойства воды)</a:t>
            </a:r>
            <a:r>
              <a:rPr b="0" lang="ru-RU" sz="1600" spc="-1" strike="noStrike" u="sng">
                <a:solidFill>
                  <a:srgbClr val="000066"/>
                </a:solidFill>
                <a:uFillTx/>
                <a:latin typeface="Verdana"/>
              </a:rPr>
              <a:t>. </a:t>
            </a:r>
            <a:br>
              <a:rPr sz="1600"/>
            </a:br>
            <a:r>
              <a:rPr b="0" lang="ru-RU" sz="1600" spc="-1" strike="noStrike" u="sng">
                <a:solidFill>
                  <a:srgbClr val="000066"/>
                </a:solidFill>
                <a:uFillTx/>
                <a:latin typeface="Verdana"/>
              </a:rPr>
              <a:t>2. Добавить несколько капель красителя любого цвета по желанию детей</a:t>
            </a:r>
            <a:r>
              <a:rPr b="0" i="1" lang="ru-RU" sz="1600" spc="-1" strike="noStrike" u="sng">
                <a:solidFill>
                  <a:srgbClr val="000066"/>
                </a:solidFill>
                <a:uFillTx/>
                <a:latin typeface="Verdana"/>
              </a:rPr>
              <a:t>(рассматривание и наблюдение за растворением веществ в разных жидкостях)</a:t>
            </a:r>
            <a:r>
              <a:rPr b="0" lang="ru-RU" sz="1600" spc="-1" strike="noStrike" u="sng">
                <a:solidFill>
                  <a:srgbClr val="000066"/>
                </a:solidFill>
                <a:uFillTx/>
                <a:latin typeface="Verdana"/>
              </a:rPr>
              <a:t>.</a:t>
            </a: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1600"/>
            </a:br>
            <a:r>
              <a:rPr b="0" lang="ru-RU" sz="1600" spc="-1" strike="noStrike" u="sng">
                <a:solidFill>
                  <a:srgbClr val="000066"/>
                </a:solidFill>
                <a:uFillTx/>
                <a:latin typeface="Verdana"/>
              </a:rPr>
              <a:t>3. Также добавляем растительное масло, чем больше масла, тем эффект "путешествия пузырьков" интереснее </a:t>
            </a:r>
            <a:r>
              <a:rPr b="0" i="1" lang="ru-RU" sz="1600" spc="-1" strike="noStrike" u="sng">
                <a:solidFill>
                  <a:srgbClr val="000066"/>
                </a:solidFill>
                <a:uFillTx/>
                <a:latin typeface="Verdana"/>
              </a:rPr>
              <a:t>(рассматривание, как две жидкости вместе себя ведут)</a:t>
            </a:r>
            <a:r>
              <a:rPr b="0" lang="ru-RU" sz="1600" spc="-1" strike="noStrike" u="sng">
                <a:solidFill>
                  <a:srgbClr val="000066"/>
                </a:solidFill>
                <a:uFillTx/>
                <a:latin typeface="Verdana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3" name="Picture 6" descr="GnjIZoBjaVs"/>
          <p:cNvPicPr/>
          <p:nvPr/>
        </p:nvPicPr>
        <p:blipFill>
          <a:blip r:embed="rId1"/>
          <a:stretch/>
        </p:blipFill>
        <p:spPr>
          <a:xfrm>
            <a:off x="1908000" y="2133720"/>
            <a:ext cx="518508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84360" y="115920"/>
            <a:ext cx="80280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4. Добавление шипучей таблетки и наблюдение за процессом образования пузырьков в двух жидкостях, эффект "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Лавовой лампы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"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5" name="Picture 9" descr="3Jqw8xlRUhA"/>
          <p:cNvPicPr/>
          <p:nvPr/>
        </p:nvPicPr>
        <p:blipFill>
          <a:blip r:embed="rId1"/>
          <a:stretch/>
        </p:blipFill>
        <p:spPr>
          <a:xfrm>
            <a:off x="1763640" y="1197000"/>
            <a:ext cx="4654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Ws0nsEOb7Uo"/>
          <p:cNvPicPr/>
          <p:nvPr/>
        </p:nvPicPr>
        <p:blipFill>
          <a:blip r:embed="rId1"/>
          <a:srcRect l="7319" t="31499" r="-5697" b="15091"/>
          <a:stretch/>
        </p:blipFill>
        <p:spPr>
          <a:xfrm>
            <a:off x="1547640" y="260280"/>
            <a:ext cx="5977080" cy="40323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-181080" y="4455720"/>
            <a:ext cx="9325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66"/>
                </a:solidFill>
                <a:uFillTx/>
                <a:latin typeface="Verdana"/>
              </a:rPr>
              <a:t>Рекомендации родителям</a:t>
            </a: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-Очень интересно наблюдать.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-Переключение взгляда с ближних шариков на дальние и наоборот, полезное упражнение для глаз.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-Слежение за несколькими шариками одновременно тренирует внимание.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-Экспериментируйте и наслаждайтесь каждым моментом проведенным вместе с Вашей семьей!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13:52:08Z</dcterms:created>
  <dc:creator>Denis</dc:creator>
  <dc:description/>
  <dc:language>en-US</dc:language>
  <cp:lastModifiedBy>bogda</cp:lastModifiedBy>
  <dcterms:modified xsi:type="dcterms:W3CDTF">2022-01-04T22:18:03Z</dcterms:modified>
  <cp:revision>6</cp:revision>
  <dc:subject/>
  <dc:title>Лава-лампа. Опыты и эксперименты  для детей 3-4 лет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0C4C623265D4125815722F38758A79B</vt:lpwstr>
  </property>
  <property fmtid="{D5CDD505-2E9C-101B-9397-08002B2CF9AE}" pid="3" name="KSOProductBuildVer">
    <vt:lpwstr>1049-11.2.0.10426</vt:lpwstr>
  </property>
</Properties>
</file>